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532-6F32-4331-924A-096A3A98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F61-2645-45F7-B3C6-97DF48B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CDE-2E15-4CD4-8F9A-C1A4E7F1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0A2-DDC2-42B5-B86D-DD853A99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4328-6512-48DA-A336-97E7E3F6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3BC9-0FB9-4666-902C-13806AA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973-7CB0-4329-8EAC-B50A67EC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2C2-773C-4133-A835-3C8172E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F127-B839-4628-8F95-47B88B2F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EAB1-5F65-4275-8315-73BA9DCF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188D-1394-48AA-A2BA-C055048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D47-D753-48E3-97D9-C1FDB2C6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FE4C-6017-46F9-B857-89FC93F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A91E-5601-4C91-9627-8432652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1D75-852C-44F4-A1B8-D0B43E0B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A25C-F379-4A6C-B9C4-6B3CF046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1258-2BC8-4BF3-9460-0A073248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7BB-B1FA-4DF2-B3D5-8D4A5DB3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F45-3FA8-4FDD-9DDE-E606C28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BAA-25BC-4B19-9496-BC7D89C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4A4-D1E7-4C22-AFAE-FD0F3F3C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D93-CEF6-4D12-90F5-7F47792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C50-F03F-47EA-93B3-8AF9555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E34-8DBD-4C9E-883F-14535B5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862D-8FBE-4AD3-8F22-5F772EE6A8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2F88-871A-4BDA-98AB-161E51AE75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12000" y="3500280"/>
            <a:ext cx="2952720" cy="27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Verdana"/>
              </a:rPr>
              <a:t>Выполнил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Журавлёва Ан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Пунегова Ири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Пелина Юли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Шарапова Наталь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Verdana"/>
              </a:rPr>
              <a:t>Проверил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Габова М.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4" name="Picture 5" descr="C:\Users\1\Desktop\графика Настя\4.jpg"/>
          <p:cNvPicPr/>
          <p:nvPr/>
        </p:nvPicPr>
        <p:blipFill>
          <a:blip r:embed="rId1"/>
          <a:stretch/>
        </p:blipFill>
        <p:spPr>
          <a:xfrm>
            <a:off x="0" y="0"/>
            <a:ext cx="2428920" cy="17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1\Desktop\графика Настя\3.jpg"/>
          <p:cNvPicPr/>
          <p:nvPr/>
        </p:nvPicPr>
        <p:blipFill>
          <a:blip r:embed="rId2"/>
          <a:stretch/>
        </p:blipFill>
        <p:spPr>
          <a:xfrm>
            <a:off x="539640" y="3573360"/>
            <a:ext cx="2376720" cy="306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1\Desktop\графика Настя\2.jpg"/>
          <p:cNvPicPr/>
          <p:nvPr/>
        </p:nvPicPr>
        <p:blipFill>
          <a:blip r:embed="rId3"/>
          <a:stretch/>
        </p:blipFill>
        <p:spPr>
          <a:xfrm>
            <a:off x="6929280" y="0"/>
            <a:ext cx="2214720" cy="2000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2.Создание графических изображений с опорой на образе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полный образе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аль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опирова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Обведение по лин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частичный образе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Точ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штриховой лин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клетка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 осью симмет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осям координа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строение изображения на плёнке «Геовизора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астичный образец (по клеткам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орисовывание недостающих дета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033800" cy="53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астичный образец ( с осью симметрии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554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4105080" cy="554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3. Построение изображений по словесной инструкци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Verdana"/>
              </a:rPr>
              <a:t>Графические дикта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На нелинованной бумаг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На бумаге в клет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 памя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Verdana"/>
              </a:rPr>
              <a:t>Построение изображ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От ру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 линей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 помощью циркул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Графические диктан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8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4. Создание изображений по замысл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строение планов группы, комна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остроение чертежей постро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Verdana"/>
              </a:rPr>
              <a:t>Изображение строи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1.на глаз, от ру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2.объёмные объекты с помощью обведения детал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3.с использованием измер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писок литературы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аврина С.Е., Кутявина Н.Л., Топоркова И.Г Рабочая тетрадь. Готовим руку к письму. – М.: Издательство «Росмэн – Пресс,2004.-80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ванец М.М Волшебные фигуры: развивающие занятия для малышей – СПб.: Издательский Дом «Литера»,2007.- 32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упенчук О И «Готовим руку к письму: рисуем по клеткам.- СПб»2006 – 64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ушельницкая О.И., Третьякова А. Н. Вправо – влево, вверх – вниз: Развитие пространственного восприятия у детей 6-8 лет. – М.:ТЦ Сфера,2004. – 80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овикова Е.В Как подготовить руку ребёнка к письму. Комплекс упражнений для тренинга мышц рук у детей. – М.: «Гном – Пресс», 2000 – 40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1280" y="549360"/>
            <a:ext cx="7921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Цель проекта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– познакомить студентов со способами кодирования и умением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именять их на практике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Задачи проекта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зучение и анализ литературы по данной тем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ставление плана работы по реализации данной проблем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зучение особенностей графических навыков у старших дошкольников и составление диагностики по данной тем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азработка рекомендаций для родителей по развитию графических навыков детей старшего дошкольного возраста в форме букле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ставление портфолио по данной тем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Кодирование: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о процесс с помощью которого в индивидуальном опыте отражается окружающий мир с помощью системы символов, условных, сокращенных обозначений и названий, применяемых для передачи, обработки и хранений информаци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цесс представлений информации в виде код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реход от одной формы представления информации к другой, более удобной для хранения передачи или обработк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пользование совокупности символов по строго определённым правила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Значение кодирования графической информаци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звитие познавательных психических процессов(внимание, память , мышление, воображение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звитие мышц, координаций движений и тонкой моторики ру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нтеллектуальное развитие ребен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спешная подготовка ребёнка к обучению в школ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-17136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Кодирования графической информации:</a:t>
            </a:r>
            <a:br>
              <a:rPr sz="36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.осуществление основных графических операц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4038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Построение от ру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Соединение точек линия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Штриховка в заданном направлен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«дорожек» разной конфигурац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композиций из линий различных типов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композиций из различных фигур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9280" y="2491920"/>
            <a:ext cx="40384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Построение с использованием чертежно – графических инструмент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Соединение точек линия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линий с помощью линейк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строение окружностей, дуг с помощью циркул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628640"/>
            <a:ext cx="1008000" cy="936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1628640"/>
            <a:ext cx="1079640" cy="935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859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едини по точк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259920"/>
            <a:ext cx="417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Штриховка в заданном направлении, построение дороже разной конфигурац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76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62480" cy="489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роение композиций из линий различных тип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0384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роение линий с помощью линей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960720" cy="54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1:29:26Z</dcterms:created>
  <dc:creator>Наташа</dc:creator>
  <dc:description/>
  <dc:language>en-US</dc:language>
  <cp:lastModifiedBy>Администратор</cp:lastModifiedBy>
  <dcterms:modified xsi:type="dcterms:W3CDTF">2010-03-09T10:01:26Z</dcterms:modified>
  <cp:revision>16</cp:revision>
  <dc:subject/>
  <dc:title>Слайд 1</dc:title>
</cp:coreProperties>
</file>